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339-BBA6-46A0-8A98-C9EE2D4E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7CA-6781-4296-9086-22C09254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B10-A3D6-45BE-9FDD-269971E2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14D-D4EE-44F0-8E49-EE882AF0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D16-6A9B-4886-9C35-11F311A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EF21-41D8-4578-A420-0E230057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F3BF-2CD1-4045-A1A8-A58A7F26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099E-D35A-4F20-953B-8050306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D25D-8EF1-45FF-8766-4FE879A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CE38-615A-4B00-B89D-EABF498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A96-BF27-460B-93E8-D02CCEB5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5D8-F1CE-4547-B92A-D37D4D2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2AF-CF33-4467-8AAB-45B218E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5E28-27FB-44E7-B33F-053CCDA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21A-4A92-4B85-B18C-4C23544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EB4-ABCC-48F9-BE45-05ED600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2F9E-5BEA-4511-9710-84E7FD5D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4AB-DEA4-4518-8182-D19F2FC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C37-6333-4C30-9D72-0ADF389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A64-B0D6-4375-A110-A2C3B83C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1C4-6A4D-4525-89DC-50684780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CB1-34B3-43F4-98F5-70BA6F2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CC7-E4AE-4CE2-A877-9A0A6A3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38D-4A23-4A64-A239-37439D8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E7C8-3AA8-4354-9108-2897237FF7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483-243F-4E26-841D-D89EA63BA9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STEM image of atom"/>
          <p:cNvPicPr/>
          <p:nvPr/>
        </p:nvPicPr>
        <p:blipFill>
          <a:blip r:embed="rId1"/>
          <a:stretch/>
        </p:blipFill>
        <p:spPr>
          <a:xfrm>
            <a:off x="914400" y="14479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ual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Dalton's Theory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000 Years After Democritus 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give or take a few)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experimental evidence that atoms had “parts”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ally these parts are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learn about three of these particles (the ones that matter to chemistry and that have practical applications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son (1897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a subatomic particle in all types of materials that he 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icle had a _________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lled it the ______________ (electrical parti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JJThomson"/>
          <p:cNvPicPr/>
          <p:nvPr/>
        </p:nvPicPr>
        <p:blipFill>
          <a:blip r:embed="rId1"/>
          <a:stretch/>
        </p:blipFill>
        <p:spPr>
          <a:xfrm>
            <a:off x="685800" y="1752480"/>
            <a:ext cx="37339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hode Ray Tub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cathode ray and magnet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5" descr="cathode ray schematic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08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6400800" y="220968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Attracted to + end meaning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6781680" y="2590920"/>
            <a:ext cx="228600" cy="22860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his experimental evidence show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negatively charged particles were present in every ______________ that h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be a _____________________________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others had hypothesized about particles, this was the ________experimental evidence of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son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_________________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ere known to be ____________ over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new of a specific negative 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re had to be something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no evidence of a positive particle so it was  not part of 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um Pudding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“________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ther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 with experimental evidence available at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Plum Pudding Model"/>
          <p:cNvPicPr/>
          <p:nvPr/>
        </p:nvPicPr>
        <p:blipFill>
          <a:blip r:embed="rId1"/>
          <a:stretch/>
        </p:blipFill>
        <p:spPr>
          <a:xfrm>
            <a:off x="380880" y="1523880"/>
            <a:ext cx="419112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nest Rutherfo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5" descr="Rutherford"/>
          <p:cNvPicPr/>
          <p:nvPr/>
        </p:nvPicPr>
        <p:blipFill>
          <a:blip r:embed="rId1"/>
          <a:stretch/>
        </p:blipFill>
        <p:spPr>
          <a:xfrm>
            <a:off x="2819520" y="1523880"/>
            <a:ext cx="3035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utherford’s Gold Foil Experi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support the “_________________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______________ particles (which are positively charged) as projectiles and shoot them toward a very thin layer of ______ (he repeated the experiment with other______ and got similar resul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 was that the alpha particles would “plow through” the “plum pudding matrix unaffected – think of shooting a bullet through a jello fruit m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 introduction to atomic structure (with a bit of history thrown in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 Back- no such thing as a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“philosophe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ideas were based on thoughts,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ttempt at an atomic theory w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\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5" descr="Gold Foil Set U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st majority of the particles went right through, unaffected just as he hypothes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ercentage were deflected off at an 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y small percentage _____________ almost directly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were “lost” or unaccount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atom is empty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to support this is that most alpha particles were not affected by the “solid” gold 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ust be someth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caused some alpha particles to be deflected or shot right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ke sure you understand why the experiment supports these two fa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Gold Foil Expt Conclusion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9600" y="5218200"/>
            <a:ext cx="3140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If the Plum Puddi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Had been correct. This w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Rutherford’s Hypo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81480" y="5257800"/>
            <a:ext cx="335304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Model of an atom after the Gold Foil Experi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mall is the nucle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expanding a single atom to the size of a pro football st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would be about the size of a _______________placed on the ____ yar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sma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therford said that hitting the nucleus was like finding “a fly in a cathedr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t too long thereaf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fic positive particle was discovered called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sitive partic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______________particle was discovered that explain the total mass of atoms. This was the 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a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covered last (about 1932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utr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by _______________in 19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grandparents were likely alive th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” particle- could use electrical of magnetic properties to identif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chadwick"/>
          <p:cNvPicPr/>
          <p:nvPr/>
        </p:nvPicPr>
        <p:blipFill>
          <a:blip r:embed="rId1"/>
          <a:stretch/>
        </p:blipFill>
        <p:spPr>
          <a:xfrm>
            <a:off x="838080" y="1523880"/>
            <a:ext cx="35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ohr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to explain the electrons in more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lled the __________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very popular and still exists in many people’s m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Bohr"/>
          <p:cNvPicPr/>
          <p:nvPr/>
        </p:nvPicPr>
        <p:blipFill>
          <a:blip r:embed="rId1"/>
          <a:stretch/>
        </p:blipFill>
        <p:spPr>
          <a:xfrm>
            <a:off x="0" y="1523880"/>
            <a:ext cx="4724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hr Model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5" descr="planetary model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is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_____like little _______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____________________the exact location and path of an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learn much more about this when we study quantum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mocritus sai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a piece of g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t in ha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doing this and eventually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’ll get to a piece that can’t be divided any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 word for “indivisible”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 a theory based on experimental evidence- more of a “______________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rrent (quantum)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lled an _________________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nd neutrons are in the very small, very dense __________________ (almost all of the mass of the atom is ther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 are located outside of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thing Like One of The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6" descr="electron cloud model"/>
          <p:cNvPicPr/>
          <p:nvPr/>
        </p:nvPicPr>
        <p:blipFill>
          <a:blip r:embed="rId1"/>
          <a:stretch/>
        </p:blipFill>
        <p:spPr>
          <a:xfrm>
            <a:off x="0" y="16765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lectroncloud"/>
          <p:cNvPicPr/>
          <p:nvPr/>
        </p:nvPicPr>
        <p:blipFill>
          <a:blip r:embed="rId2"/>
          <a:stretch/>
        </p:blipFill>
        <p:spPr>
          <a:xfrm>
            <a:off x="4267080" y="2438280"/>
            <a:ext cx="4876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arts of the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600200"/>
          <a:ext cx="8839080" cy="4159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143000"/>
                <a:gridCol w="1676520"/>
                <a:gridCol w="1904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st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dw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m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59"/>
          <p:cNvSpPr/>
          <p:nvPr/>
        </p:nvSpPr>
        <p:spPr>
          <a:xfrm>
            <a:off x="838080" y="5943600"/>
            <a:ext cx="7772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The actual masses are 1.7 x 10</a:t>
            </a:r>
            <a:r>
              <a:rPr b="1" lang="en-US" sz="1800" spc="-1" strike="noStrike" baseline="30000">
                <a:solidFill>
                  <a:srgbClr val="010199"/>
                </a:solidFill>
                <a:latin typeface="Arial"/>
              </a:rPr>
              <a:t>-24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g for the proton and neutron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9.1 x 10</a:t>
            </a:r>
            <a:r>
              <a:rPr b="1" lang="en-US" sz="1800" spc="-1" strike="noStrike" baseline="30000">
                <a:solidFill>
                  <a:srgbClr val="010199"/>
                </a:solidFill>
                <a:latin typeface="Arial"/>
              </a:rPr>
              <a:t>-28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g for the electron. “amu” is a convenient way of descri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relative m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61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periodic table every atomic symbol is accompanied by two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ave more than this but those two numbers (the_________________________________________) are alway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not  to memorize any of those numbers, but you will learn how to interpret and apply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ly,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_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upposed to be placed at the bottom left of the atomic symbol and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top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809880" y="3657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8120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2286000" y="495288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609480" y="3657600"/>
            <a:ext cx="15242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ass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380880" y="4800600"/>
            <a:ext cx="18288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omic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_______________ = the number of protons in the nucleu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atoms “ID #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equals the # electrons in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 (atoms are neutral so # + = # 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 = # protons and neutrons in the nucleus (mass of electrons is so small we ignore it in most ca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neutrons can be found by the following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rotons + #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#                #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#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i atom previously that would be    7- 3 = 4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09480" y="3657600"/>
            <a:ext cx="7467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4800240" y="2514600"/>
            <a:ext cx="114300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couple of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#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# =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31-15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#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# =  80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80-35 =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828800" y="19051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6019920" y="2666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019920" y="18288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Facts you can get from every atomic symb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0+ elements x 5 = more than 500 facts you can get from atomic symb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are not expected to memorize any numbers on the periodic table. Just to know how to use them to get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ality, all atoms of an element are not iden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l have the same number of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vary in the number of 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of an atom with different numbers of neutrons are call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tomic number but a different 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Guy Democrit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5" descr="Democritus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106" name="Oval 6"/>
          <p:cNvSpPr/>
          <p:nvPr/>
        </p:nvSpPr>
        <p:spPr>
          <a:xfrm>
            <a:off x="5867280" y="1066680"/>
            <a:ext cx="327672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n’t really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y- mor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hunch. I h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experi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952880" y="281952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2; na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sotope is named for its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_____________ of carbon with a mass number of 14 is called carbon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ic number does not get stated explicitly because once you say Carbon, the atomic number must be 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 of an atom act the same 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toms have only one isotope while others may have a do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isotope is still an isotope. In other words there is not a “normal” atom (like Carbon-12) and then isotopes. Carbon-12, carbon-13 and carbon-14 are all isotopes of carb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You Could See an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5" name="Picture 5" descr="isotopes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3779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09480" y="5257800"/>
            <a:ext cx="81216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Note the electron cloud around the nucleus and the small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of the nucleus compared to the entire atom. If drawn to scale the nucleus would be a miniscule dot in this 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 flipV="1">
            <a:off x="2742840" y="4419720"/>
            <a:ext cx="152280" cy="91440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2895480" y="4343400"/>
            <a:ext cx="2667240" cy="99072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V="1">
            <a:off x="2057400" y="3276360"/>
            <a:ext cx="7632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2057400" y="3276360"/>
            <a:ext cx="426708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1600200"/>
          <a:ext cx="8381880" cy="453060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1295280"/>
                <a:gridCol w="1143000"/>
                <a:gridCol w="990720"/>
                <a:gridCol w="838080"/>
                <a:gridCol w="914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Isot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Atomic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Mass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p</a:t>
                      </a:r>
                      <a:r>
                        <a:rPr b="0" lang="en-US" sz="2800" spc="-1" strike="noStrike" baseline="30000">
                          <a:solidFill>
                            <a:srgbClr val="010199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Line 107"/>
          <p:cNvSpPr/>
          <p:nvPr/>
        </p:nvSpPr>
        <p:spPr>
          <a:xfrm>
            <a:off x="8305920" y="1676520"/>
            <a:ext cx="228600" cy="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Isotopes vs avera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iodic table shows the average of all the isotopes of an elements, based on their relative am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your final grade is an average based on whole numbers, _____________________on the table is an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 are not present in = am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ne isotope predom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Calculations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weighted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ll of your grades in a class are 90’s and 60’s then the average will depend on the relative amounts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6 90’s and 2 60’s, then you can say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will be between 60 and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closer to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Calculations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ased on percentages or relative am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s add to 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amounts (or abundances) add t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1: 80% = .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2: 6.52 % = .6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3: 0.5% = 0.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# sig figs stays the s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Problem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mple of neon is analyzed in a device called a mass spectrometer and found to have the following isotope 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0 (20.067 amu) = 87.3% (or .873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1 (21.059 amu) = 10.6% (or .106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2 (22.073 amu) = 2.1 % (or .021%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average atomic mass of neon to 3 decimal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tio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 think about a couple of th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must be between 20 and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be closer to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p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1)(abundance of isotope 1)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2)(abundance of isotope 2)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3)(abundance of isotope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verag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and calcu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.067 amu)(.873) + (21.059 amu)(.106) + (22.073 amu)(.021)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.518          +          2.232              +           .463      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.213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- it is between 20 and 22 and closest to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ould also have done with %’s (ex 20.067 x 87.3)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divided by 100 at the end. Either is f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 does not have to match the periodic table (it will be c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asis for th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eemed 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ased on any experimenta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have drawn a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s liked sph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fference between philosophy and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    Sample Problem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idea but here we are given numbers of atoms not %’s or abund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minute sample of gold atoms is analyzed and found to have the following 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6 (mass = 195.894 amu) = 208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7 (mass = 196.892 amu) = 981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8 (mass = 197.879 amu) = 129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average atomic mass of gold in the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and Sol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ould convert the number of each isotope into a percent or abundance (number of isotope over total. But you don’t hav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–between 196 and 198 (close to 1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5.894 amu)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) =   40745.9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(196.892 amu)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8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) = 193151.0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(197.879 amu)(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29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atoms) =   25526.3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9423.395 amu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tal a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check for “reasonable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7400" y="5791320"/>
            <a:ext cx="19926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6.831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Wrap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all the people and what they contrib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ates are required but should know general order of things and rough ideas of ti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any experiment described in detail (I have seen the tes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interpret atomic 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Wrap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do average atomic mass calculations (know how to check for reasonableness of an answ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describe what isotopes are and recognize if two atoms are isotopes of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“salmon” study guide to make sure you haven’t left out any topic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toine Lavoisier’s Contribution (late 1700’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conclusions and theories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________________________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not just conjectures or hunches that “seemed”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Lavoisier's Lab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635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479840" y="5486400"/>
            <a:ext cx="44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06840" y="5562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creation of Lavoisier’s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voisier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good idea to be a tax collector around the time of the French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Lavoisier 2 (head on)"/>
          <p:cNvPicPr/>
          <p:nvPr/>
        </p:nvPicPr>
        <p:blipFill>
          <a:blip r:embed="rId1"/>
          <a:stretch/>
        </p:blipFill>
        <p:spPr>
          <a:xfrm>
            <a:off x="5029200" y="1295280"/>
            <a:ext cx="3649680" cy="256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Lavoisier 2 (head off)"/>
          <p:cNvPicPr/>
          <p:nvPr/>
        </p:nvPicPr>
        <p:blipFill>
          <a:blip r:embed="rId2"/>
          <a:stretch/>
        </p:blipFill>
        <p:spPr>
          <a:xfrm>
            <a:off x="5029200" y="4114800"/>
            <a:ext cx="3581280" cy="201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029200" y="1523880"/>
            <a:ext cx="1768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014080" y="4840200"/>
            <a:ext cx="20080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fter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Chop, Chop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hn Dalt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heory in a scientific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info- old name for colorblindness was “_______________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for Dalton as he recognized and described the con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John Dalton"/>
          <p:cNvPicPr/>
          <p:nvPr/>
        </p:nvPicPr>
        <p:blipFill>
          <a:blip r:embed="rId1"/>
          <a:stretch/>
        </p:blipFill>
        <p:spPr>
          <a:xfrm>
            <a:off x="1219320" y="1676520"/>
            <a:ext cx="2692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lton’s Atomic The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his theory on experimenta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______________ are composed of indivisible particles called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toms of an element are _________________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___________ elements ar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mix _________or combine _______ in _____________number ratios to form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actions, atoms ____________ what they are combined with, but an atom never changes into a different type of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1:04Z</dcterms:created>
  <dc:creator>Lgotlib</dc:creator>
  <dc:description/>
  <dc:language>en-US</dc:language>
  <cp:lastModifiedBy>asalla</cp:lastModifiedBy>
  <dcterms:modified xsi:type="dcterms:W3CDTF">2009-09-22T19:27:00Z</dcterms:modified>
  <cp:revision>45</cp:revision>
  <dc:subject/>
  <dc:title>An introduction to atomic structure (with a bit of history thrown in)</dc:title>
</cp:coreProperties>
</file>